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51C-D0FF-47AC-8F36-85B68C62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2FC-F43A-435D-82BD-7E7555C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A7A-5C15-4402-8F88-3E710D51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116-BCBC-4083-ADA7-19DE3B2F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FCD-87CC-4806-97FC-6F6104E9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162-C840-4D95-8CDC-AE1A4650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F125-F67F-47AA-9322-A902489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B6C5-F030-42EE-BBEE-508C25FD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3FD-38DB-4446-823D-9A3EDB6E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4321-F3EE-4D7E-BB59-2FA27E6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A830-699F-4089-B380-AD888C5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D5D-50EE-4D7D-8985-F113E5A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D8F7-E8FB-48E2-ADFF-2F99B1E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BDAB-CEBC-4F78-A939-62B5878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E446-E071-48A5-BCA4-995E67A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DDEC-C194-4C08-A3B3-09963BE7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ED7-D1D4-4795-AE73-6CEE3C98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254-C00F-4175-AE4E-0A5E934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0FA-85B7-4208-A2B4-66B8FDED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458-F96E-4037-9DF2-954F6D0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F46-E42F-4F6D-9962-42241094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A6C-47BC-4386-AF72-DC479C0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D32-3648-4D9E-A27D-C625C13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B89-BBEE-4F67-B97D-42D61E0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47FD-F95F-46B3-A636-5904AC94B2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7D2-8967-45D2-BB8D-0C5C16566C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0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image" Target="../media/image14.gif"/><Relationship Id="rId9" Type="http://schemas.openxmlformats.org/officeDocument/2006/relationships/image" Target="../media/image13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66880" y="1517760"/>
            <a:ext cx="6477120" cy="3886200"/>
          </a:xfrm>
          <a:prstGeom prst="verticalScroll">
            <a:avLst>
              <a:gd name="adj" fmla="val 7217"/>
            </a:avLst>
          </a:prstGeom>
          <a:gradFill rotWithShape="0">
            <a:gsLst>
              <a:gs pos="0">
                <a:srgbClr val="987a5c"/>
              </a:gs>
              <a:gs pos="50000">
                <a:srgbClr val="ffcc99"/>
              </a:gs>
              <a:gs pos="100000">
                <a:srgbClr val="987a5c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89840" y="196920"/>
            <a:ext cx="936360" cy="1546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704000" y="5454720"/>
            <a:ext cx="1086120" cy="146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-152280" y="1488960"/>
            <a:ext cx="4038480" cy="5253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67240" y="2006640"/>
            <a:ext cx="33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4c8"/>
                </a:solidFill>
                <a:latin typeface="Comic Sans MS"/>
              </a:rPr>
              <a:t>28 ноября 2006 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71840" y="281160"/>
            <a:ext cx="1076400" cy="148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7473960" y="27000"/>
            <a:ext cx="1025640" cy="1697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5076720" y="187200"/>
            <a:ext cx="1220760" cy="1643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314880" y="291960"/>
            <a:ext cx="1085760" cy="146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3871800" y="5216400"/>
            <a:ext cx="1025640" cy="16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435480" y="3024360"/>
            <a:ext cx="508464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участие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преступлении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818320" y="992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76400" y="1472760"/>
            <a:ext cx="7497720" cy="447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«Русская правда» (11 век) говорит о соучастии, как о разбойном нападении «скопом», при этом роли соучастников не выделяет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«Уложение о наказаниях уголовных и исправительных» (1845 год) отмечает следующие виды соучастников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зачинщик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дговорщик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дстрекател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собник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пустител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укрыватели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То же Уложение, но 1903 года, упростило это деление, оставив только три вида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исполнители,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дстрекатели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050b"/>
                </a:solidFill>
                <a:latin typeface="Tahoma"/>
              </a:rPr>
              <a:t>пособники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70120" y="190440"/>
            <a:ext cx="7845120" cy="549360"/>
            <a:chOff x="870120" y="190440"/>
            <a:chExt cx="7845120" cy="549360"/>
          </a:xfrm>
        </p:grpSpPr>
        <p:sp>
          <p:nvSpPr>
            <p:cNvPr id="221" name=""/>
            <p:cNvSpPr txBox="1"/>
            <p:nvPr/>
          </p:nvSpPr>
          <p:spPr>
            <a:xfrm>
              <a:off x="1754280" y="355680"/>
              <a:ext cx="11430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9900"/>
                  </a:solidFill>
                  <a:latin typeface="Arial"/>
                </a:rPr>
                <a:t>т. 3 - 21 - 63</a:t>
              </a:r>
              <a:endParaRPr b="0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  <a:ea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70120" y="190440"/>
              <a:ext cx="57600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923080" y="309600"/>
              <a:ext cx="4554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 txBox="1"/>
            <p:nvPr/>
          </p:nvSpPr>
          <p:spPr>
            <a:xfrm>
              <a:off x="6505560" y="396720"/>
              <a:ext cx="220968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ecd882"/>
                  </a:solidFill>
                  <a:latin typeface="Arial"/>
                </a:rPr>
                <a:t>ДОБРОВОЛЬНЫЙ ОТКАЗ</a:t>
              </a:r>
              <a:endPara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172200" y="38088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ДОБРОВОЛЬНЫЙ ОТКАЗ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304920"/>
            <a:ext cx="1000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т. 3 - 21 - 63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838080"/>
            <a:ext cx="22100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ОУЧАСТ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080" y="990720"/>
            <a:ext cx="505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УЧАСТИЕ ДВУХ ИЛИ БОЛЕЕ ЛИЦ В СОВЕРШЕНИИ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УМЫШЛЕННОГО ПРЕСТУПЛЕНИЯ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3560" y="1828800"/>
            <a:ext cx="2867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ОУЧАСТНИКИ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320" y="259092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ИСПОЛНИТЕЛ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000" y="32608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ОРГАНИЗАТОР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30640" y="4098960"/>
            <a:ext cx="24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ПОДСТРЕКАТЕЛ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6560" y="480060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ПОСОБНИ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15200" y="5334120"/>
            <a:ext cx="106668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1203480" cy="1055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6708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3301800">
            <a:off x="3256920" y="2228760"/>
            <a:ext cx="190800" cy="609480"/>
          </a:xfrm>
          <a:prstGeom prst="downArrow">
            <a:avLst>
              <a:gd name="adj1" fmla="val 50000"/>
              <a:gd name="adj2" fmla="val 79858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rot="19248600">
            <a:off x="6940080" y="1958760"/>
            <a:ext cx="219240" cy="3210840"/>
          </a:xfrm>
          <a:prstGeom prst="downArrow">
            <a:avLst>
              <a:gd name="adj1" fmla="val 50000"/>
              <a:gd name="adj2" fmla="val 366133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36232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15960" y="685800"/>
            <a:ext cx="18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Verdana"/>
              </a:rPr>
              <a:t>- УМЫШЛЕННОЕ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9080" y="6858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Verdana"/>
              </a:rPr>
              <a:t>СОВМЕСТНОЕ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181480" y="4800600"/>
            <a:ext cx="1371600" cy="111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408480" y="3797280"/>
            <a:ext cx="1280880" cy="12812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576760" y="266760"/>
            <a:ext cx="420840" cy="861480"/>
            <a:chOff x="5576760" y="266760"/>
            <a:chExt cx="420840" cy="86148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5576760" y="266760"/>
              <a:ext cx="4208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745240" y="671400"/>
              <a:ext cx="8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8289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861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557280" y="21096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01720" y="99072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ЛИЦО, НЕПОСРЕДСТВЕННО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СОВЕРШИВШЕЕ ПРЕСТУПЛЕ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0" y="1581120"/>
            <a:ext cx="38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ЛИЦО, ОРГАНИЗОВАВШЕЕ СОВЕРШЕНИЕ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ПРЕСТУПЛЕНИЯ ИЛИ РУКОВОДИВШЕЕ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ЕГО ИСПОЛНЕНИЕМ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8840" y="2325600"/>
            <a:ext cx="33537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ЛИЦО, СЛОНИВШЕЕ ДРУГОЕ ЛИЦО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К СОВЕРШЕНИЮ ПРЕСТУПЛЕН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(УГОВОР, ПОДКУП, УГРОЗА, ДРУГОЙ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СПОСОБ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9240" y="3390840"/>
            <a:ext cx="56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ЛИЦО, КОТОРОЕ 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Times New Roman"/>
              </a:rPr>
              <a:t>ПОМОГАЛО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СОВЕРШЕНИЮ ПРЕСТУПЛЕН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19320" y="304920"/>
            <a:ext cx="1000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т. 3 - 21 - 63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72200" y="38088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ДОБРОВОЛЬНЫЙ ОТКАЗ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 rot="2103600">
            <a:off x="4800240" y="3695760"/>
            <a:ext cx="146160" cy="533520"/>
          </a:xfrm>
          <a:prstGeom prst="downArrow">
            <a:avLst>
              <a:gd name="adj1" fmla="val 50000"/>
              <a:gd name="adj2" fmla="val 91256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9718400">
            <a:off x="6009840" y="3681360"/>
            <a:ext cx="146160" cy="533520"/>
          </a:xfrm>
          <a:prstGeom prst="downArrow">
            <a:avLst>
              <a:gd name="adj1" fmla="val 50000"/>
              <a:gd name="adj2" fmla="val 91256"/>
            </a:avLst>
          </a:prstGeom>
          <a:solidFill>
            <a:srgbClr val="99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18840" y="41911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8000"/>
                </a:solidFill>
                <a:uFillTx/>
                <a:latin typeface="Verdana"/>
              </a:rPr>
              <a:t>ИНТЕЛЛЕКТУАЛЬНО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8080" y="4191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8000"/>
                </a:solidFill>
                <a:uFillTx/>
                <a:latin typeface="Verdana"/>
              </a:rPr>
              <a:t>ФИЗИЧЕСКИ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6040" y="4419720"/>
            <a:ext cx="18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(</a:t>
            </a: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СОВЕТЫ,  УКАЗАНИЯ</a:t>
            </a: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171360" cy="171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91040" y="4908600"/>
            <a:ext cx="293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ВРЕМЕННОЕ ОТСУТСТВИЕ ЖИЛЬЦОВ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В КВАРТИРЕ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05120" y="55627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30560" y="544212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ОБЕЩАНИЕ УКРЫТЬ ПРЕСТУПНИКА,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СПРЯТАТЬ ОРУЖИЕ ИЛИ ПРЕДМЕТЫ,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ДОБЫТЫЕ ПРЕСТУПНЫМ ПУТЁМ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562720" y="4952880"/>
            <a:ext cx="171360" cy="171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842800" y="4832280"/>
            <a:ext cx="226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ПРЕДОСТАВЛЕНИЕ ОРУДИЙ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И СРЕДСТВСОВЕРШЕНИЯ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ПРЕСТУПЛЕНИЯ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562720" y="57150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86360" y="5518080"/>
            <a:ext cx="3144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СОЗДАНИЕ НЕОБХОДИМЫХ УСЛОВИЙ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ДЛЯ  СОВЕРШЕНИЯ ПРЕСТУПЛЕНИЯ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Verdana"/>
              </a:rPr>
              <a:t>(</a:t>
            </a:r>
            <a:r>
              <a:rPr b="0" lang="en-US" sz="1000" spc="-1" strike="noStrike">
                <a:solidFill>
                  <a:srgbClr val="40458c"/>
                </a:solidFill>
                <a:latin typeface="Verdana"/>
              </a:rPr>
              <a:t>ПОВРЕЖДЕНИЕ СИГНАЛИЗАЦИИ, ОКЛЮЧЕНИЕ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Verdana"/>
              </a:rPr>
              <a:t>ЭЛЕКТРОЕТИ, НАХОЖДЕНИЕ НА СТРАЖЕ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27040" y="195120"/>
            <a:ext cx="571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576760" y="266760"/>
            <a:ext cx="420840" cy="861480"/>
            <a:chOff x="5576760" y="266760"/>
            <a:chExt cx="420840" cy="861480"/>
          </a:xfrm>
        </p:grpSpPr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5576760" y="266760"/>
              <a:ext cx="4208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745240" y="671400"/>
              <a:ext cx="8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1266840" y="689040"/>
            <a:ext cx="1014480" cy="896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2360520" y="1549440"/>
            <a:ext cx="1062000" cy="917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3659040" y="2333520"/>
            <a:ext cx="1138320" cy="925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2360520" y="3070080"/>
            <a:ext cx="809640" cy="925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808600" y="43941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различные действия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172200" y="38088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ОБРОВОЛЬНЫЙ ОТКАЗ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9320" y="304920"/>
            <a:ext cx="1000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т. 3 - 21 - 63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43000" y="838080"/>
            <a:ext cx="73152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виды преступных групп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429000" y="176688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УППА ЛИЦ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/>
          <p:nvPr/>
        </p:nvSpPr>
        <p:spPr>
          <a:xfrm rot="2323800">
            <a:off x="2368080" y="1972800"/>
            <a:ext cx="152640" cy="1676520"/>
          </a:xfrm>
          <a:prstGeom prst="downArrow">
            <a:avLst>
              <a:gd name="adj1" fmla="val 55593"/>
              <a:gd name="adj2" fmla="val 234975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9065600">
            <a:off x="6813720" y="1958760"/>
            <a:ext cx="152280" cy="1676160"/>
          </a:xfrm>
          <a:prstGeom prst="downArrow">
            <a:avLst>
              <a:gd name="adj1" fmla="val 50000"/>
              <a:gd name="adj2" fmla="val 275177"/>
            </a:avLst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35280" y="348948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БЕЗ ПРЕДВАРИ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ТЕЛЬНОГО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СГОВОРА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43560" y="5033880"/>
            <a:ext cx="23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ОРГАНИЗОВАННАЯ 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05960" y="5452920"/>
            <a:ext cx="2756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ЗАРАНЕЕ ОБЪЕДИНИВШАЯС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ДЛЯ СОВЕРШЕН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ПРЕСТУПЛЕН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Verdana"/>
              </a:rPr>
              <a:t>по ролям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93920" y="3481560"/>
            <a:ext cx="18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ПРЕСТУПНОЕ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СООБЩЕСТВО 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7200" y="4167360"/>
            <a:ext cx="16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СПЛОЧЕННАЯ,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ДЕЙСТВУЮША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Verdana"/>
              </a:rPr>
              <a:t>ПОСТОЯННО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69880" y="195120"/>
            <a:ext cx="571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5576760" y="266760"/>
            <a:ext cx="420840" cy="861480"/>
            <a:chOff x="5576760" y="266760"/>
            <a:chExt cx="420840" cy="86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5576760" y="266760"/>
              <a:ext cx="4208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745240" y="671400"/>
              <a:ext cx="8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rot="1169400">
            <a:off x="3483000" y="2384280"/>
            <a:ext cx="192240" cy="2586240"/>
          </a:xfrm>
          <a:prstGeom prst="downArrow">
            <a:avLst>
              <a:gd name="adj1" fmla="val 50000"/>
              <a:gd name="adj2" fmla="val 336330"/>
            </a:avLst>
          </a:prstGeom>
          <a:solidFill>
            <a:srgbClr val="0bc10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20596200">
            <a:off x="5376960" y="2354040"/>
            <a:ext cx="204840" cy="2617560"/>
          </a:xfrm>
          <a:prstGeom prst="downArrow">
            <a:avLst>
              <a:gd name="adj1" fmla="val 50000"/>
              <a:gd name="adj2" fmla="val 319464"/>
            </a:avLst>
          </a:prstGeom>
          <a:solidFill>
            <a:srgbClr val="0bc10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06440" y="4843440"/>
            <a:ext cx="2708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29000"/>
                </a:solidFill>
                <a:latin typeface="Verdana"/>
              </a:rPr>
              <a:t>по предвари-</a:t>
            </a:r>
            <a:endParaRPr b="0" lang="en-US" sz="19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29000"/>
                </a:solidFill>
                <a:latin typeface="Verdana"/>
              </a:rPr>
              <a:t>тельному </a:t>
            </a:r>
            <a:endParaRPr b="0" lang="en-US" sz="19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29000"/>
                </a:solidFill>
                <a:latin typeface="Verdana"/>
              </a:rPr>
              <a:t>сговору</a:t>
            </a:r>
            <a:endParaRPr b="0" lang="en-US" sz="19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8240" y="431316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соисполнительство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69440" y="589284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соисполнительство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172200" y="38088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ОБРОВОЛЬНЫЙ ОТКАЗ</a:t>
            </a:r>
            <a:endParaRPr b="0" lang="en-US" sz="1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304920"/>
            <a:ext cx="1000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т. 3 - 21 - 63</a:t>
            </a:r>
            <a:endParaRPr b="0" lang="en-US" sz="1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1160" y="1219320"/>
            <a:ext cx="81223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ОТВЕТСТВЕННОСТЬ</a:t>
            </a:r>
            <a:r>
              <a:rPr b="0" i="1" lang="en-US" sz="24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СОУЧАСТНИКОВ ПРЕСТУПЛЕНИ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50040" y="45975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РГАНИЗАТОР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0480" y="4673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Verdana"/>
              </a:rPr>
              <a:t>ПОСОБНИК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80560" y="55767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ИСПОЛНИТЕЛЬ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98160" y="55119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Verdana"/>
              </a:rPr>
              <a:t>ПОДСТРЕКАТЕЛЬ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4495680"/>
            <a:ext cx="823680" cy="1524240"/>
          </a:xfrm>
          <a:custGeom>
            <a:avLst/>
            <a:gdLst>
              <a:gd name="textAreaLeft" fmla="*/ 0 w 823680"/>
              <a:gd name="textAreaRight" fmla="*/ 824040 w 8236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3" y="0"/>
                </a:lnTo>
                <a:lnTo>
                  <a:pt x="21600" y="10800"/>
                </a:lnTo>
                <a:lnTo>
                  <a:pt x="4953" y="21600"/>
                </a:lnTo>
                <a:lnTo>
                  <a:pt x="0" y="21600"/>
                </a:lnTo>
                <a:lnTo>
                  <a:pt x="16647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958000" y="4572000"/>
            <a:ext cx="823680" cy="1523880"/>
          </a:xfrm>
          <a:custGeom>
            <a:avLst/>
            <a:gdLst>
              <a:gd name="textAreaLeft" fmla="*/ 360 w 823680"/>
              <a:gd name="textAreaRight" fmla="*/ 824400 w 8236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3" y="0"/>
                </a:lnTo>
                <a:lnTo>
                  <a:pt x="21600" y="10800"/>
                </a:lnTo>
                <a:lnTo>
                  <a:pt x="4953" y="21600"/>
                </a:lnTo>
                <a:lnTo>
                  <a:pt x="0" y="21600"/>
                </a:lnTo>
                <a:lnTo>
                  <a:pt x="16647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9240" y="5105520"/>
            <a:ext cx="455040" cy="337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АЯ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24920" y="5105520"/>
            <a:ext cx="455040" cy="337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Verdana"/>
              </a:rPr>
              <a:t>АЯ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2412720" cy="3657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82760" y="203040"/>
            <a:ext cx="571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576760" y="266760"/>
            <a:ext cx="420840" cy="861480"/>
            <a:chOff x="5576760" y="266760"/>
            <a:chExt cx="420840" cy="86148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5576760" y="266760"/>
              <a:ext cx="4208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745240" y="671400"/>
              <a:ext cx="83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Элементарная провер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1656720"/>
            <a:ext cx="771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Прочитайте казус и определите, являются ли данные действующие лица соучастниками кражи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В какой роли они действовали в данной ситуации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Андрей дразнил Дениса, говоря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что «он не мужик, если не может ради дружбы украсть из магазина сигареты»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Денис украл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5400" y="2271600"/>
            <a:ext cx="2858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93560" y="239760"/>
            <a:ext cx="538200" cy="503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219320" y="304920"/>
            <a:ext cx="1000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т. 3 - 21 - 63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923080" y="309600"/>
            <a:ext cx="455400" cy="395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6505560" y="396720"/>
            <a:ext cx="2209680" cy="2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ДОБРОВОЛЬНЫЙ ОТКАЗ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8080" y="93816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оклад по фор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70120" y="190440"/>
            <a:ext cx="7845120" cy="549360"/>
            <a:chOff x="870120" y="190440"/>
            <a:chExt cx="7845120" cy="549360"/>
          </a:xfrm>
        </p:grpSpPr>
        <p:sp>
          <p:nvSpPr>
            <p:cNvPr id="323" name=""/>
            <p:cNvSpPr txBox="1"/>
            <p:nvPr/>
          </p:nvSpPr>
          <p:spPr>
            <a:xfrm>
              <a:off x="1754280" y="355680"/>
              <a:ext cx="11430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9900"/>
                  </a:solidFill>
                  <a:latin typeface="Arial"/>
                </a:rPr>
                <a:t>т. 3 - 21 - 63</a:t>
              </a:r>
              <a:endParaRPr b="0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"/>
                <a:ea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870120" y="190440"/>
              <a:ext cx="57600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5923080" y="309600"/>
              <a:ext cx="4554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 txBox="1"/>
            <p:nvPr/>
          </p:nvSpPr>
          <p:spPr>
            <a:xfrm>
              <a:off x="6505560" y="396720"/>
              <a:ext cx="220968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ecd882"/>
                  </a:solidFill>
                  <a:latin typeface="Arial"/>
                </a:rPr>
                <a:t>ДОБРОВОЛЬНЫЙ ОТКАЗ</a:t>
              </a:r>
              <a:endPara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3800" y="1862640"/>
            <a:ext cx="71323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c10f"/>
                </a:solidFill>
                <a:latin typeface="Tahoma"/>
              </a:rPr>
              <a:t>Порядок ответ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Сообщить свое решение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Назвать статью (её  часть, пункт) Уголовного кодекса РФ, на основе которой принято решение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Назвать факты, которые были важны для принятия решения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Объяснить, как эти факты раскрывают содержание статьи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c10f"/>
                </a:solidFill>
                <a:latin typeface="Tahoma"/>
              </a:rPr>
              <a:t>Образец ответ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Мы решили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, что Иванов П.П. является пособником преступления.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Согласно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ст. 33   ч. 5 уголовного кодекса РФ пособником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признается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тот-то и тот-то (можно зачитать эту часть).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Как видно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 из материалов дела Иванов П.П. продавал краденое имущество. Продажа краденого – один из признаков пособничества.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Следовательно</a:t>
            </a: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, Иванов  П.П. – пособник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00720" y="1630440"/>
            <a:ext cx="4309920" cy="3516120"/>
          </a:xfrm>
          <a:prstGeom prst="wedgeRoundRectCallout">
            <a:avLst>
              <a:gd name="adj1" fmla="val -77625"/>
              <a:gd name="adj2" fmla="val -33791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5cb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d00028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152280"/>
            <a:ext cx="491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Arial"/>
              </a:rPr>
              <a:t>Домашнее задание 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35560" y="2011320"/>
            <a:ext cx="41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Подобрать из периодической печати примеры соучастия в преступлении. Выделить роли соучастников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914640" cy="5092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076720" y="192240"/>
            <a:ext cx="33069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37:39Z</dcterms:created>
  <dc:creator>Михальченко</dc:creator>
  <dc:description/>
  <dc:language>en-US</dc:language>
  <cp:lastModifiedBy>Первый</cp:lastModifiedBy>
  <dcterms:modified xsi:type="dcterms:W3CDTF">2006-11-24T14:24:45Z</dcterms:modified>
  <cp:revision>280</cp:revision>
  <dc:subject/>
  <dc:title>Заголовок слайда отсутствует</dc:title>
</cp:coreProperties>
</file>